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83D5-5E25-441B-AC8B-4FB84249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ADF-6BF2-4078-9B45-5C035F82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F6E-54CC-4C73-B6A5-521FD7B5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30B-5315-4520-9764-3424B8ED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449-FE6C-42B5-BB6D-E2BC63EE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FF8-1429-44B4-832A-743E6AA9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8BC7-D11B-40FE-B414-AB8C1711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DAAB-FE57-429C-A3B9-1159998E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5236-CDF3-4E61-AB34-B239281C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3796-2806-4E26-B687-A0891B30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C09-7498-4FDF-85B0-8FC95ADA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5C6E-98FD-44C7-89C7-5DC71DFF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3267-2D6C-4C24-9A7B-D5E0B42AF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ecnologia%20e%20Metodologia.mpg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O-Poder-da-Educacao.pps" TargetMode="External"/><Relationship Id="rId3" Type="http://schemas.openxmlformats.org/officeDocument/2006/relationships/hyperlink" Target="file:///O-Poder-da-Educacao.pps" TargetMode="External"/><Relationship Id="rId4" Type="http://schemas.openxmlformats.org/officeDocument/2006/relationships/hyperlink" Target="file:///Vida_Passageira.pps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686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 – gerenciar, com o apoio da Coordenadoria de Tecnologias Educacionais, o processo de seleção do professor de tecnologias das unidades escolares sob sua jurisdição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X – Oferecendo suporte para o bom andamento da aplicação da avaliação e certificando-se de que a escola segue as normas estabelecidas pela COTE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– gerenciar os eventos de divulgação das experiências de sucesso das unidades escolares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 – Organizar e coordenar anual, encontro de professores (workshop) para divulgação dos projetos desenvolvidos por cada escol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I – Estabelecer mecanismos que facilitem a relação professor regente e professor da Sala de Tecnologias Educaciona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XI – Discutir com a direção, coordenação e Professor da S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II – assessorar professores regentes e coordenadores pedagógicos no planejamento das atividades das Salas de Tecnologias Educacionais;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XII - Discutir com a direção, coordenação e Professor da STE (PSTE como ponte entre escola e NT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V – orientar as escolas na elaboração, implantação e implementação de projetos pedagógicos que envolvam Tecnologias Educacionais;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IV – Por meio do acompanhamento e contato direto com os Professores da S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 – orientar a escola quanto ao cumprimento da carga horária dos professor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V - Resolução da SEE e esclarecimento junto à dire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XVI – prestar assessoria técnico-pedagógica aos municípios no processo de implantação, implementação e avaliação das salas de tecnologias municipa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XVI -</a:t>
            </a:r>
            <a:r>
              <a:rPr b="0" lang="pt-BR" sz="3200" spc="-1" strike="noStrike">
                <a:solidFill>
                  <a:srgbClr val="0000ff"/>
                </a:solidFill>
                <a:latin typeface="Arial"/>
              </a:rPr>
              <a:t> Caso haja parceria com as escolas municipais e junto as seguintes cidades vizinhas sob nossa jurisdição: Bataiporã, Taquarussu, Anaurilândia, Angélica, Ivinhema, Novo Horizonte do Sul, Nova Andradin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2033280" y="411480"/>
            <a:ext cx="4828320" cy="5812200"/>
            <a:chOff x="2033280" y="411480"/>
            <a:chExt cx="4828320" cy="5812200"/>
          </a:xfrm>
        </p:grpSpPr>
        <p:sp>
          <p:nvSpPr>
            <p:cNvPr id="59" name="_s63510"/>
            <p:cNvSpPr/>
            <p:nvPr/>
          </p:nvSpPr>
          <p:spPr>
            <a:xfrm flipH="1" flipV="1">
              <a:off x="3482640" y="2486880"/>
              <a:ext cx="48420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63509"/>
            <p:cNvSpPr/>
            <p:nvPr/>
          </p:nvSpPr>
          <p:spPr>
            <a:xfrm>
              <a:off x="2388240" y="1264680"/>
              <a:ext cx="1230480" cy="15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gél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63508"/>
            <p:cNvSpPr/>
            <p:nvPr/>
          </p:nvSpPr>
          <p:spPr>
            <a:xfrm flipH="1">
              <a:off x="3245400" y="3594240"/>
              <a:ext cx="60156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63507"/>
            <p:cNvSpPr/>
            <p:nvPr/>
          </p:nvSpPr>
          <p:spPr>
            <a:xfrm>
              <a:off x="2033280" y="3180600"/>
              <a:ext cx="1230480" cy="15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vinh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63506"/>
            <p:cNvSpPr/>
            <p:nvPr/>
          </p:nvSpPr>
          <p:spPr>
            <a:xfrm flipH="1">
              <a:off x="3912480" y="4105080"/>
              <a:ext cx="266040" cy="68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63505"/>
            <p:cNvSpPr/>
            <p:nvPr/>
          </p:nvSpPr>
          <p:spPr>
            <a:xfrm>
              <a:off x="3033720" y="4714560"/>
              <a:ext cx="1230480" cy="15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rad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63504"/>
            <p:cNvSpPr/>
            <p:nvPr/>
          </p:nvSpPr>
          <p:spPr>
            <a:xfrm>
              <a:off x="4712040" y="4105080"/>
              <a:ext cx="268200" cy="68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63503"/>
            <p:cNvSpPr/>
            <p:nvPr/>
          </p:nvSpPr>
          <p:spPr>
            <a:xfrm>
              <a:off x="4634280" y="4712040"/>
              <a:ext cx="1230480" cy="15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v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rizont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 S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63500"/>
            <p:cNvSpPr/>
            <p:nvPr/>
          </p:nvSpPr>
          <p:spPr>
            <a:xfrm>
              <a:off x="5043600" y="3596760"/>
              <a:ext cx="601560" cy="1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63499"/>
            <p:cNvSpPr/>
            <p:nvPr/>
          </p:nvSpPr>
          <p:spPr>
            <a:xfrm>
              <a:off x="5631120" y="3176280"/>
              <a:ext cx="1230480" cy="15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quaruss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63498"/>
            <p:cNvSpPr/>
            <p:nvPr/>
          </p:nvSpPr>
          <p:spPr>
            <a:xfrm flipV="1">
              <a:off x="4926240" y="2486880"/>
              <a:ext cx="482040" cy="4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63497"/>
            <p:cNvSpPr/>
            <p:nvPr/>
          </p:nvSpPr>
          <p:spPr>
            <a:xfrm>
              <a:off x="5274000" y="1262160"/>
              <a:ext cx="1230480" cy="15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aurilâ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63496"/>
            <p:cNvSpPr/>
            <p:nvPr/>
          </p:nvSpPr>
          <p:spPr>
            <a:xfrm flipV="1">
              <a:off x="4445640" y="1917720"/>
              <a:ext cx="0" cy="75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63495"/>
            <p:cNvSpPr/>
            <p:nvPr/>
          </p:nvSpPr>
          <p:spPr>
            <a:xfrm>
              <a:off x="3831120" y="411480"/>
              <a:ext cx="1230480" cy="15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taipor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63494"/>
            <p:cNvSpPr/>
            <p:nvPr/>
          </p:nvSpPr>
          <p:spPr>
            <a:xfrm>
              <a:off x="3831120" y="2676240"/>
              <a:ext cx="1230480" cy="1509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TE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rad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rt. 24. Caberá ao professor lotado na Sala de Tecnolog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– subsidiar os professores regentes na utilização das diversas Tecnologias Educacionais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– auxiliar os professores regentes no planejamento e desenvolvimento das atividades da Sala de Tecnologias Educacionai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 – responsabilizar-se pelo gerenciamento das Salas de Tecnologias Educacionais;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 – participar dos cursos de formação continuada oferecidos pela Secretaria de Estado de Educação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– cumprir a carga horária destinada ao planejamento pedagógico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 – encaminhar, semestralmente, ao Núcleo de Tecnologia Educacional, relatórios de atividades pedagógicas e do trabalho desenvolvido na Sala de Tecnologias Educacionais;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I – manter atualizados e arquivados os registros do uso da Sala de Tecnologias Educacionais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II – zelar pelo cumprimento do horário de utilização da Sala de Tecnologias Educacionais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X – participar dos eventos de divulgação das experiências de sucesso da unidade escolar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– cumprir o regimento escolar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 – avaliar o seu desempenho na Sala de Tecnologias Educacionai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ÚCLEO DE TECNOLOGIAS EDUCACIONAIS DE NOVA ANDRADINA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RIBUIÇÕES GERAI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ISÃO DE FUTURO DA 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 referência em educação pela qualidade dos serviços prestados, por meio de ações inovadoras, da valorização, do respeito dos servidores e cumprimento dos preceitos legais e da é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rt. 25. Caberá ao professor reg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– planejar, em articulação com o professor de tecnologias, as atividades a serem desenvolvida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– participar dos cursos de formação continuada em Tecnologias Educacionais oferecidos pela Secretaria de Estado de Educaçã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 – fazer uso da Sala de Tecnologias objetivando a efetividade e eficácia do processo de ensino e de aprendizagem;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 – desenvolver com os alunos trabalhos e pesquisas que estimulem a construção do conheciment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– responsabilizar-se pelo desenvolvimento das atividades pedagógicas na Sala de Tecnologias Educacionai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 – avaliar o processo de ensino e de aprendizagem dos aluno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I – avaliar o seu desempenho na Sala de Tecnologias Educacionai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CNOLOGIA OU METODOLOG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ofessores Multiplica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ff"/>
                </a:solidFill>
                <a:latin typeface="Arial"/>
              </a:rPr>
              <a:t>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e-mail: azenaide_nte@hot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Carla Var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Arial"/>
              </a:rPr>
              <a:t>e-mail: carla_nte@hoy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ff"/>
                </a:solidFill>
                <a:latin typeface="Arial"/>
              </a:rPr>
              <a:t>Cezar Lucas Hanz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e-mail: cezar_nte@hot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ff"/>
                </a:solidFill>
                <a:latin typeface="Arial"/>
              </a:rPr>
              <a:t>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e-mail: luciana_nte@hot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       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ff"/>
                </a:solidFill>
                <a:latin typeface="Arial"/>
              </a:rPr>
              <a:t>Manoel Douglas Paschoale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e-mail: douglas_nte@hot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ff"/>
                </a:solidFill>
                <a:latin typeface="Arial"/>
              </a:rPr>
              <a:t>Marcos Alexandre Redig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e-mail: alexandre_nte@hot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ff"/>
                </a:solidFill>
                <a:latin typeface="Arial"/>
              </a:rPr>
              <a:t>Ronilva de Araújo Per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e-mail: ronilva_nte@hot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ff"/>
                </a:solidFill>
                <a:latin typeface="Arial"/>
              </a:rPr>
              <a:t>Welitton Fabiano da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e-mail: welitton_nte@hot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 Poder da 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ducacão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ISSÃ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antir a qualidade do ensino e da aprendizagem nas escolas da REE, fortalecendo-as e respeitando a diversidade do cidadão sul-mato-gross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berá aos Núcleos de Tecnologias Educacionai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– acompanhar, orientar e avaliar o processo de implantação e implementação das Salas de Tecnologias Educacionai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 – Visita para levantamento das situações reais do espaço físico e recursos human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 – monitorar, acompanhar e avaliar as atividades desenvolvidas nas Salas de Tecnologias Educacionais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I – Visita mensal às escolas e acompanhamento diário das atividades desenvolvidas na S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 – responsabilizar-se pela formação continuada dos professores e coordenadores pedagógicos em Tecnologias Educacionai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II -  Capacitação dos professores e coordenadores de acordo com a necessidade apontada pelos mesmo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7488000" cy="70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V – oferecer subsídios técnico-pedagógicos aos professores que atuam nas Salas de Tecnologias Educacionais de forma que as atividades propostas garantam o alcance das habilidades e competências esperadas dos alunos;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ff"/>
                </a:solidFill>
                <a:latin typeface="Arial"/>
              </a:rPr>
              <a:t>IV – Apoio constante à eventuais problemas técnico e acompanhamento direto (e.mail, telefone) das atividades pedagógic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 – coordenar o processo de articulação Secretaria de Estado de Educação com as Salas de Tecnologias Educaciona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 - Manter as escolas sob nossa jurisdição informada das mudanças vinculadas pela SEE, servir de ponte entre SED e escola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686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 – coordenar o processo de Integração das Tecnologias no âmbito da Rede Estadual de Ensino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I - Orientar a implementação das tecnologias no desenvolvimento de projetos de ensin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I – avaliar o desempenho do professor de tecnologias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II – Avaliação contínua (durante as atividades desenvolvidas no decorrer do ano) e final (no final do ano le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II – auxiliar o professor de tecnologias na utilização dos equipamentos e programas de informática bem como dos demais recursos tecnológicos aplicados à educação;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VIII – Oferecer curso técnico, que ofereça requisitos para a boa utilização das ferramentas tecnológicas;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2:01:31Z</dcterms:created>
  <dc:creator>Fbaptista</dc:creator>
  <dc:description/>
  <dc:language>en-US</dc:language>
  <cp:lastModifiedBy>CARLA</cp:lastModifiedBy>
  <dcterms:modified xsi:type="dcterms:W3CDTF">2008-05-15T18:35:36Z</dcterms:modified>
  <cp:revision>74</cp:revision>
  <dc:subject/>
  <dc:title>Slide 1</dc:title>
</cp:coreProperties>
</file>